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3.png" ContentType="image/png"/>
  <Override PartName="/ppt/media/image25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6EA-D0E9-47C5-B16D-0ADE30E5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6DC-D108-4BA7-BD5F-C3D6EFE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57B-7F67-4A6C-B78F-C12415F7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FD4-F547-4B1F-A3F6-5C0A586E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C31A-6FEF-4954-B681-0E087141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8880-1688-40A8-9453-4108D535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6367-774A-476D-BEC0-561600E6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4EB3-AAEE-49BB-A5A7-9FC4C82D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A9C-DE0C-4692-B248-4732A0BB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1FB0-33D4-4A0E-B944-8D49F54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C27-4A02-47CD-BE85-2017BF9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AC1-3E53-4A22-BB42-344F615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203-AA09-46E6-AF53-86D60962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3696-2E70-4AAA-A8D8-CDD554F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115-880C-4225-ACCC-4E72C234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9BC1-426F-4963-ACD4-3452CEFD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B43B-FF07-4758-8477-56CB04DE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A777-D415-492E-A938-99F32039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90B6-2B7F-42DD-B773-6963573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2013-0D51-43E5-B145-E0DCFF9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099F-70C3-444F-99E9-5172FB6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2063-482C-4C43-9054-971A0EA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74A-FE64-4816-87F0-5FCEBCBE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441E-020D-4206-B5FA-C7AADE4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6E54-996B-4C59-9CEB-C8132BA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8EBA-C8DE-4D0E-9188-014764D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10AE-D6E4-4B24-8C19-558953B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83F1-4F27-4F82-97F2-E053EE6E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7931-4D18-49C0-AB9E-9424AE31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4E5D-DC56-4C07-A8FA-EA0090CE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C66-78E0-4082-8E07-334F0DC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FA4-BF3C-4D15-A667-3669502A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0AF-7AFF-4599-AF1B-40F465A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73E-0A46-4A51-A418-DE1CD9E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8CA-283E-4BCD-8450-995D363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F1D-F1FA-4BCE-9192-8BDE541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1CA9-9AD9-4B06-A1E3-A4D26303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549B-F778-4104-886C-B946459C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471-7AF4-4459-9E8E-085F92BA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Section 35-2: The Nervous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32280" y="1905120"/>
            <a:ext cx="3485880" cy="434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2895480"/>
            <a:ext cx="157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49600" y="1266840"/>
            <a:ext cx="3875040" cy="4662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06760" y="2408400"/>
            <a:ext cx="87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6760" y="2062080"/>
            <a:ext cx="87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x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63920" y="3198960"/>
            <a:ext cx="87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xon term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36561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aptic c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9765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rotransmi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51360" y="2305080"/>
            <a:ext cx="8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p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1611360"/>
            <a:ext cx="153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drite of adjacent neur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3032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ion of Impu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80880"/>
            <a:ext cx="845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ynapse = junction between two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537080" cy="5105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95480" y="228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Diagram of a Syn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38280" y="4971960"/>
            <a:ext cx="7772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15000" y="19828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Trans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 An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 of impulse is always the s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 all or nothing response: An impulse either occurs or does not occur (like domino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level of stimulation to cause an impulse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114800" y="4572000"/>
            <a:ext cx="14652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 Nervous System: Main Func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rvous system controls and coordinates functions throughout the body and responds to internal and external stimu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8540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. What are some specific functions of the Nervo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Receives sensory messages from the 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Organizes information and integrates it with already store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ends out messages to muscles and glands, producing movement and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Allows for consci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. What makes up the Nervo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unit of structure and function of the nervous system is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eu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nerve c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429000" y="2895480"/>
            <a:ext cx="2577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886200" cy="2397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24280" y="81612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8305920" cy="2925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668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ctures of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. What are the 3 Main Types of Neur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nsory Neuron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sory = of the sen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ceive information from receptor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n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rneur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- = betwe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lay messag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tor Neu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tor = causing mo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structions to effectors (glands or musc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761760" cy="72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95680" y="2362320"/>
            <a:ext cx="1447920" cy="761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391520" y="2362320"/>
            <a:ext cx="56664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1905120" cy="1030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4343400" y="5715000"/>
            <a:ext cx="1073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34200" cy="37051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034000" y="1903320"/>
            <a:ext cx="6550200" cy="3202200"/>
            <a:chOff x="2034000" y="1903320"/>
            <a:chExt cx="6550200" cy="3202200"/>
          </a:xfrm>
        </p:grpSpPr>
        <p:sp>
          <p:nvSpPr>
            <p:cNvPr id="229" name=""/>
            <p:cNvSpPr/>
            <p:nvPr/>
          </p:nvSpPr>
          <p:spPr>
            <a:xfrm>
              <a:off x="2034000" y="2513160"/>
              <a:ext cx="11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xon termin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2960" y="31989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elin sheat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0560" y="479916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72640" y="27417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Arial"/>
                </a:rPr>
                <a:t>Cell bod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5840" y="47530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Ax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7960" y="190332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49720" y="48290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endri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581280" y="1295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1. Cell body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 Contains the nucleus and other cell organe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510552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. Dendrit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           Short, branched extensions of the cell bod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Func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ceive stimuli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116680"/>
            <a:ext cx="4191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3. Axon: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long, thin extension of the cell bo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Function: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sends nerve impulses away from the cell body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Remember “A” for away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. What is the Structure of a Neu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. How do Neurons Communic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monstrous, beautiful mess.  Its billions of nerve cells - called neurons – lie in a tangled web that displays cognitive powers far exceeding any of the silicon machines we have built to mimic i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illiam F. Al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943600" y="1639800"/>
            <a:ext cx="24638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2028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s for How Neurons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ndrites receive the signal (action potential) which then travels down to the axon of the first neu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When the signal reaches the end of the axon, the axon releases chemicals calle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eurotransmitter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acetylcholine, norepinephrine, dopamine, seroton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eurotransmitters enter into the space between the 2 neurons, called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ynaptic clef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Neurotransmitters bind to receptors on dendrites of the next neuron thereby passing on the sig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3:34:09Z</dcterms:created>
  <dc:creator>Theresa DeLaurentis</dc:creator>
  <dc:description/>
  <dc:language>en-US</dc:language>
  <cp:lastModifiedBy>Theresa DeLaurentis</cp:lastModifiedBy>
  <dcterms:modified xsi:type="dcterms:W3CDTF">2007-10-09T02:49:59Z</dcterms:modified>
  <cp:revision>10</cp:revision>
  <dc:subject/>
  <dc:title>Slide 1</dc:title>
</cp:coreProperties>
</file>